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4CF-CB7C-491C-9584-43E5B6C4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E95-7E13-420C-89CE-A9775305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756-52DC-41FA-B0AF-1D79393F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DAD-2FFA-4F63-ADDE-6E8029ED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4185A-0D14-4321-9C3B-5D3661FD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1EE0E-96D5-4F47-BA7A-B018E12F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A5F00-45E6-4752-BEB3-6905FCF4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C1D75-9B8C-4C4C-BD55-CB3FA4EA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67DF8-E273-4E2D-9085-EE08187B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97C0B-2839-436D-B4EC-4B94D335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F74B2-86B4-4E6F-A45E-920F179C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1C4-EBAC-440B-9870-B06F30B6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F8C2F-828A-451F-9EFF-894902FC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CBCA7-C0D1-4F30-AA98-DE05E4E8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1B656-F56B-451D-B51C-71766798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70298-2AAD-46F4-A368-42F09443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99460-FC8C-4BA4-8707-89B28630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A7D-C19B-4302-90D8-C766AB81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3DD-B8B2-420C-A854-03098EB5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31E-4334-4E07-9EB7-1B1E1A2D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DD3-684D-4E55-9BCE-5EB7A524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B58-53D6-49CB-AC7C-54C2FEFE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7B9-9A29-4FA4-8764-9E9528EE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5F5-DB32-40DA-935A-F7AC428A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B51B-1A7D-4024-9089-7929DC6C2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2F08-7EF0-4FF8-87A2-1F0A18A48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Мониторинг сведений о государственных контрактах включенных в Реестр государственных контрактов, заключенных от имени Российской Федерации по итогам размещения заказов в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1</a:t>
            </a: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, 2 кварталах 20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10</a:t>
            </a: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 г.  на территории Пензенской области</a:t>
            </a: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6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33200" y="135000"/>
          <a:ext cx="8966520" cy="662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35000"/>
                    <a:ext cx="8966520" cy="66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6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466560"/>
          <a:ext cx="8820000" cy="592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66560"/>
                    <a:ext cx="8820000" cy="592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412920"/>
          <a:ext cx="8977320" cy="64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12920"/>
                    <a:ext cx="897732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412920"/>
          <a:ext cx="8977320" cy="64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12920"/>
                    <a:ext cx="897732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05:54:28Z</dcterms:created>
  <dc:creator>Панкрашкин</dc:creator>
  <dc:description/>
  <dc:language>en-US</dc:language>
  <cp:lastModifiedBy>Трусова Т.Н.</cp:lastModifiedBy>
  <dcterms:modified xsi:type="dcterms:W3CDTF">2010-07-13T10:27:23Z</dcterms:modified>
  <cp:revision>363</cp:revision>
  <dc:subject/>
  <dc:title>Межрегиональный Семинар-совещание Территориальных органов Федерального казначейства Приволжского Федерального округа ПЕНЗА, 2008 г.</dc:title>
</cp:coreProperties>
</file>